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FFEC-65EC-48F1-9575-1C6FCBC02C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temperature 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ue of mobile clinics,   were supposed to have 4 this year only 2 happe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s with preparation of rooms, informing personnel at locations by the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f new antigens in chronically transfused pat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484-D254-4312-A94E-0DF28FBD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A9E-73CB-432D-9BF3-224327A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C30-2046-4B80-A905-B78EF19A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459-416D-46CB-A039-A265C49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0F2-A642-43BF-9ECC-08BB70F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698B-B7DC-4DE8-8333-AA3C3398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18D9-F2D1-4CBB-8753-C1CDE68B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240F-BA2A-406F-991C-13F02F79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5EBF-46F4-4404-801C-073360FA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E68-9A98-4C74-B5D0-CBA840FC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F52C-1C73-4BC6-AE72-F4C0120D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224-1621-4F6D-95C5-4ADF06E5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F362-9C01-41D5-AC71-5BD57104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994F-564D-4389-8A58-225E492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FE26-51C7-47FD-B171-4D5A3ED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639D-C1E9-459E-AF6A-C5414C5C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25D0-749C-4D22-9E9B-7BB1E11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6F1-A1A3-4324-988C-3B5FE7D2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875-CB24-4BE3-9638-47EF3B3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CB7-410E-4874-BDA6-B0427EBF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0CE-A0D4-408E-93D8-9C9A25A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11D-39AC-44D4-9DBA-C10C029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4E6-05E3-485E-B858-C252983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991-A373-43F6-97CC-AF9AF3BE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7745-53BB-429A-8B38-88373CDE4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F69-1996-4EA8-B2BF-DD9F4CA98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ood Bank QEH- An era of bankruptcy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3640" y="4797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ff33"/>
                </a:solidFill>
                <a:latin typeface="Arial"/>
              </a:rPr>
              <a:t>Department of Haema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ff33"/>
                </a:solidFill>
                <a:latin typeface="Arial"/>
              </a:rPr>
              <a:t>Dr. Ren</a:t>
            </a:r>
            <a:r>
              <a:rPr b="0" lang="en-US" sz="1600" spc="-1" strike="noStrike">
                <a:solidFill>
                  <a:srgbClr val="99ff33"/>
                </a:solidFill>
                <a:latin typeface="Arial"/>
                <a:ea typeface="Arial"/>
              </a:rPr>
              <a:t>é</a:t>
            </a:r>
            <a:r>
              <a:rPr b="0" lang="en-GB" sz="1600" spc="-1" strike="noStrike">
                <a:solidFill>
                  <a:srgbClr val="99ff33"/>
                </a:solidFill>
                <a:latin typeface="Arial"/>
              </a:rPr>
              <a:t>e Boy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ff33"/>
                </a:solidFill>
                <a:latin typeface="Arial"/>
              </a:rPr>
              <a:t>Dr. Theresa Laurent (consultant/advis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32760" y="801000"/>
            <a:ext cx="355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able of ABO and Rh distribution by n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1800" y="1328040"/>
            <a:ext cx="5374440" cy="36828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BO and Rh blood type distribution by nation (averages for each populatio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-47520" y="1695600"/>
          <a:ext cx="9240840" cy="4400280"/>
        </p:xfrm>
        <a:graphic>
          <a:graphicData uri="http://schemas.openxmlformats.org/drawingml/2006/table">
            <a:tbl>
              <a:tblPr/>
              <a:tblGrid>
                <a:gridCol w="2560680"/>
                <a:gridCol w="831960"/>
                <a:gridCol w="831600"/>
                <a:gridCol w="831960"/>
                <a:gridCol w="831960"/>
                <a:gridCol w="838080"/>
                <a:gridCol w="838080"/>
                <a:gridCol w="838440"/>
                <a:gridCol w="838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[1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[1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mark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[13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[14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[15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g Kong, China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[16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South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[17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[18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[19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[2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r>
                        <a:rPr b="0" lang="en-US" sz="1800" spc="-1" strike="noStrike" u="sng" baseline="30000">
                          <a:solidFill>
                            <a:srgbClr val="ff6600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[2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2522520"/>
          <a:ext cx="4191120" cy="30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522520"/>
                    <a:ext cx="41911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404640"/>
          <a:ext cx="9144000" cy="6453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04640"/>
                    <a:ext cx="914400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tical Yield o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 unit of blood theoretically g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unit F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unit PRBC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single donor unit cryoprecipitate, single donor unit plate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sma for Ig and albu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138 U of FFP, 4138 U PRBC’s, 4138 U cryo 4138 single donor units platel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34 U FFP, 2405 U PRBC’s,  46U cryo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16 U plasma, 409 U platelets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use by mo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91440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ard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bl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9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ed cells 1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FP               2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9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elets        16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41%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s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4280" y="3430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rational use of blood and blood produ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n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oll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97160" y="1600200"/>
            <a:ext cx="6502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Do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705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ctious Diseas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patitis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LV-I and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phili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w used rarely in current practice in the UK or U.S.A, although in many countries it accounts for most transfu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whole blood donations are processed to separate red cells, platelets and 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whole blood should only be considered  in the following scenari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dult has bled acutely and mas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ult has already received 5 to 7 units of RBC plus crystall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ed re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0-200 mls. of  red cells with plasma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emoglobin 20g/ 100 ml,  PCV 55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cted rise in Hb with 1 unit of red cells is approximately 1g/d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tions for Packe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ssive blood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emia of chronic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emoglobinopath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rioperative period to maintain Hb&gt; 7g/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need for transfusion with Hb &gt;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0-400 x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/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telet units can be e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donor uni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heresis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single donor unit contains 55 x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apheresis unit contains 240x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ed at room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antly agit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ly last for 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dose of platelets should raise patient’s counts by 30 x1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9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fter 1 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fused in 15 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iscus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rious components available from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tional use of blood and its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faced by Q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for improved blood product usage in QE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84280" y="3430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tions for platelet trans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BLEED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ue to thrombocytopa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e to platelet dys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ention of spontaneous bleeding with counts &lt;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counts to avoid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907920"/>
          <a:ext cx="8534520" cy="4989600"/>
        </p:xfrm>
        <a:graphic>
          <a:graphicData uri="http://schemas.openxmlformats.org/drawingml/2006/table">
            <a:tbl>
              <a:tblPr/>
              <a:tblGrid>
                <a:gridCol w="1979640"/>
                <a:gridCol w="6554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elet count /u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 Con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10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 abdominal, chest or neurosurg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 5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uma, major surg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 3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or surgical procedu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 2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/treatment of bleeding in pt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epsis, leukemia, maligna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 1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omplicated malignancy, leukem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   5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P patients at low ri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sma collected from single donor units or by aphere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zen within 8 hours of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18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-3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last for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unit is 25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ins all plasma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ction of bleeding due to excess warfarin, Vitamin K deficiency, liv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C, dilutional coagulopa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herited factor XI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e: 15 mls/kg  about 3-5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FP and INR &lt;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e at 1ml/kg per hour in likely fluid overload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en within 24 hours of th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esting FF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zen Pla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ma frozen within 24 hours of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level of plasma proteins except factor V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indications as FF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oprecip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FP thawed at 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and centrifu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yoprecipitate is the by-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ains Fibrinogen, Factor VIII, Factor XIII, von Willebrand’s Fa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oprecip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longer indicated for Hemophili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urce of Fibrinogen in acquired coagulopathies  as in DIC; platelet dysfunction in ur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ed for bleeding in vWD, Factor XIII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oprecip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fused as quickly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e within 6 hours of th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-15 mls; usually 10 units poo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bags contain approx. 2gm of fibrinogen and should raise fibrinogen level to 70mg/d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is an amazing flui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us w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nutrients for cells, tissues and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s waste products from various si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ost there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49687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ness of trans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life-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acute or delayed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patient at risk unnecessar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‘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transfusion of safe blood products to treat any condition leading to significant morbidity or mortality, that cannot be managed by any other mean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ppropriateness of trans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ing blood products for conditions that can otherwise be treated e.g. ana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blood products when other fluids work just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is often unnecessarily give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ise a patient’s haemoglobin level before surg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to allow earlier discharge from hospital. These are rarely valid reasons for trans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ppropriateness of Trans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’ transfusion requirements can often be minimized by good anaesthetic and surgical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not needed exposes patient unnecessar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is 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nsive, scarce re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Unnecessary transfusions may cause a shortage of blood products for patients in real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343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aced by Q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few don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reag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us disease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public awareness about need for blood and hence the number of voluntary don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encourage relatives to donate for patient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the number of mobile cli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opening hours for blood collec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of stocks of blood and blood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enance and replacement of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training of Haematology Lab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management of reagents for- infectious disease testing, antigen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record keep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o electronic record k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to reduce the need for allogeneic transf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ologous transf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saving devices in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ute normovolemic haemodilu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carrying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84280" y="3430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highly specialised circulating tissue which has several types of cells suspended in a liquid medium called plas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s from Greek 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haim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 is a life sustaining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‘</a:t>
            </a:r>
            <a:r>
              <a:rPr b="1" i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imum-non-nocer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igh risks and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emoglobin level is not the sole indicator for trans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 of appropriate products for the various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rsonal et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bank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ollecting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T. Lau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. P. P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Kay B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ptodat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itish Transfusion guidelines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linical use of 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W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J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Tuckfield et al.,Reduction of inappropriate use of blood products by prospective monitoring of blood fo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ransfusion practi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Palo et al., Population based audit of fresh frozen plasma transfusion pract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Vox Sanguini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Titlestead et al., Monitoring transfusion practices at two university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rans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Schramm et al., Influencing blood usage in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rans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Healy et al., Effect of Fresh Frozen Plasma on Prothrombin Time in patients with mild coagulation abnorm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rans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Sullivan et al., Blood collection and transfusion in the USA in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ransfus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Triulzi, The art of plasma transfusion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4818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cked re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esh Frozen 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ozen plas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yoprecip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munoglobu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he donations over period January 1, 2006 to December 31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 the various products collected during tha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5:10:56Z</dcterms:created>
  <dc:creator>Renee</dc:creator>
  <dc:description/>
  <dc:language>en-US</dc:language>
  <cp:lastModifiedBy>Renee</cp:lastModifiedBy>
  <dcterms:modified xsi:type="dcterms:W3CDTF">2007-09-22T13:02:35Z</dcterms:modified>
  <cp:revision>93</cp:revision>
  <dc:subject/>
  <dc:title>OLBDO?</dc:title>
</cp:coreProperties>
</file>