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0D3-F8DF-4D5C-A7E1-BB331F7D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27D-396D-4B15-AE4E-DBB7C0C7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E39-28D8-4A85-9A6F-128E1E64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BC3-69DB-488C-AA0F-182A98CB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EA0C-D0B9-4D54-B9A9-4B22E59F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DB20-543B-499A-A5FC-3BAF9095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2460-0A8A-44E9-8938-B319E4D9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DB48-57F2-4C8A-827D-8BC2FAFE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7CB0-B78A-426D-9E82-2CF38CDA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1B41-9B6E-4350-AE68-EFD63119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0667-0A8D-4023-A7AF-9E7238A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EA7-5DAF-437A-9F47-B89F0967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92AB-6C7D-4C6F-A197-5CA81189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24F0-7F12-4FD5-8C81-10AD8A0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0BAE-BE75-4039-9075-CF31DF7D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32DA-488A-4B7B-AA80-2F167382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609-D45D-4BA4-B845-6D5B87BC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420C-760B-4D8E-9807-2CDB8548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B423-49C9-4846-AF1E-A99544ED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5A1F-F37E-4A85-8D2C-F41B98A0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537B-C083-4CA3-AA7C-39C6CE46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B6C6-259B-4458-AC14-FEAE744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4ED-6067-415C-AA65-B9F69199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4359-615C-4EBD-B9F2-70F531C0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17C7-BC02-409C-8FB5-DFAF4CB5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2D34-24DD-4550-A82F-E396F15E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01A23-FDD4-4A7D-9132-C76CFEF3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030C-6E36-4BF1-9881-7F19753E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C916-4821-4A00-A8C9-C96660DB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1C4E-FE00-4C0A-80F8-F7E10F00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5063-60B8-4F47-9468-CF5F1A2C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AEC5-AE50-465F-BBEC-F82CA16B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AFF28-9B68-4349-8E8E-E69FC4F0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61B-2890-420E-B562-C8A4BEB1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50FF-33F8-4DDC-9883-93010F7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4FBA-EF26-45B1-A133-A0BCDD69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1CB4-AE73-4734-9DA6-D7B1FDF0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283C-F20F-43AE-A268-3CEB2179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1DB9-306C-4FD0-A5AE-AD36B5E1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8C2FA-AFB3-4BF8-B984-9018F56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30C4-16B2-4285-BAB6-4B9143F0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F3F5-5B98-41AA-8FF6-1CC5440C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C091-5482-4D06-A254-7DAE2507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FF6-D5F5-4D41-9242-1ACCF8B9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375-F121-49CC-BEF2-10A28FB5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F1B-B385-4230-9558-C41D0C04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6F6-FD46-4F61-B309-23C7A8D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A0D-A67E-4806-80F7-75C5A2F8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29C-7401-4E36-959F-B14116E154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FCC3-1BB7-40C8-9069-74469703DC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D414-49D6-4942-84D3-A0F27EC99B5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83E-DB3C-4D58-9154-9FBB91BCB2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DREA JOHNS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USCULOSKELET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calf swelling or tender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ASC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2.3 MMOL / 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SESS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ACUTE PULMONARY OEDEM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/o Acute Myocardial Infar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Uncontrolled HTN –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non-compli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? Newly Diagnosed Diabet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15 L / min- nonbreather face ma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TN 2 puffs – X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oglygerin infusion @ 1mcg/kg/min (100mcg/m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alapril 1.25mg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six 60mg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pirin 300mg st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uble insulin 10u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Arial"/>
              </a:rPr>
              <a:t>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G (RT sided leads subsequentl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enzy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T PTT n/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Urea and electroly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X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ethral catheter + uri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G: sinus, reg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VH with Str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 depression II, aV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 ST elevation vs high J point V1-V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ght sided leads - N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X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fluffy opacity througho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B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15 L O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2 sat 93.2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2 - 74.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CO2 – 39.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CO3 – 18.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b 15.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BC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T 33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dium 1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tassium 3.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loride 10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ea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9.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inin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K 1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KMB 4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oponin I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0.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RTHER MX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red To Med on 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 hou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fter seen significant impr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R 32/ min, BP 195 / 109, pulse 85/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2 hou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00 mls urine empti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mitted to M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 WAR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ed for U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y 4 aggressive, speaking loud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en by psyc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gnosis ? Paranoid Schizophrenia v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lusional dis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 Hypomanic symp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0 year old fem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pertensive – non-compliant X 1ye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CHAR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Y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/U: MOPD + Psyche Hospi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TH: Lasix 40mg 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vas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ita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pit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amicron MR 30mg 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plete Septr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CUTE CARDIOGENIC PULMONARY OEDEM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ANDREA JOHNSO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FIN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kage of fluid from the pulmonary capillaries and venules into the alveolar space as a result of increased hydrostatic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ability of left ventricle to effectively handle its pulmonary venous retu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en-US" sz="1200" spc="-1" strike="noStrike">
                <a:solidFill>
                  <a:srgbClr val="3333cc"/>
                </a:solidFill>
                <a:latin typeface="Constantia"/>
              </a:rPr>
              <a:t>MATTU ET 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THOPHYS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4648320" y="3962520"/>
            <a:ext cx="2286000" cy="8380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iotensi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562720" y="2057400"/>
            <a:ext cx="2514600" cy="91440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iotensi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1143000" y="2209680"/>
            <a:ext cx="3048120" cy="838440"/>
          </a:xfrm>
          <a:prstGeom prst="flowChart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iotensin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2057400" y="5105520"/>
            <a:ext cx="2362320" cy="83808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DO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6248520" y="5334120"/>
            <a:ext cx="2057400" cy="609480"/>
          </a:xfrm>
          <a:prstGeom prst="flowChartTermina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OCON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419720" y="2666880"/>
            <a:ext cx="990360" cy="60984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7086600" y="3124080"/>
            <a:ext cx="914400" cy="304920"/>
          </a:xfrm>
          <a:prstGeom prst="flowChartTermina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 flipV="1">
            <a:off x="4267080" y="2361960"/>
            <a:ext cx="12956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617220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 flipH="1">
            <a:off x="38858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6858000" y="48006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THOPHYS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4"/>
          <p:cNvSpPr/>
          <p:nvPr/>
        </p:nvSpPr>
        <p:spPr>
          <a:xfrm>
            <a:off x="2438280" y="2133720"/>
            <a:ext cx="2210040" cy="76176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DIA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PCW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5486400" y="3200400"/>
            <a:ext cx="3048120" cy="121932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RENIN ANGIOTEN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ATION OF S/S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3200400" y="5029200"/>
            <a:ext cx="3429000" cy="8380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D 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D SYSTEMIC VASCULAR RE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D PRE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609480" y="4191120"/>
            <a:ext cx="1981440" cy="10666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DIAC ISCHAE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FT VENTR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2895480" y="3352680"/>
            <a:ext cx="1828800" cy="609840"/>
          </a:xfrm>
          <a:prstGeom prst="flowChart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TOMA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800600" y="2286000"/>
            <a:ext cx="2666880" cy="914400"/>
          </a:xfrm>
          <a:prstGeom prst="pi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-914400" y="6858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/>
          <p:cNvSpPr/>
          <p:nvPr/>
        </p:nvSpPr>
        <p:spPr>
          <a:xfrm>
            <a:off x="6705720" y="4419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1371600" y="2057400"/>
            <a:ext cx="990720" cy="2133720"/>
          </a:xfrm>
          <a:prstGeom prst="pi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9"/>
          <p:cNvSpPr/>
          <p:nvPr/>
        </p:nvSpPr>
        <p:spPr>
          <a:xfrm>
            <a:off x="2362320" y="52578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3581280" y="289548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CIPITATING FAC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yocardial ischaemia or infar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rhythmi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controlled HTN/HTN cri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dication Non-complia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yrotoxico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uid overlo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aem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ulmonary &amp; other infec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appropriate medications-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-ve inotropes, NS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FEAT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thopnoea - sensitivit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specificity </a:t>
            </a:r>
            <a:r>
              <a:rPr b="0" lang="en-US" sz="2400" spc="-1" strike="noStrike">
                <a:solidFill>
                  <a:srgbClr val="3333cc"/>
                </a:solidFill>
                <a:latin typeface="Constantia"/>
              </a:rPr>
              <a:t>77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chycar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⁭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ezing – sensitivit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specificity </a:t>
            </a:r>
            <a:r>
              <a:rPr b="0" lang="en-US" sz="2400" spc="-1" strike="noStrike">
                <a:solidFill>
                  <a:srgbClr val="3333cc"/>
                </a:solidFill>
                <a:latin typeface="Constantia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pitations - sensitivit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specificity </a:t>
            </a:r>
            <a:r>
              <a:rPr b="0" lang="en-US" sz="2400" spc="-1" strike="noStrike">
                <a:solidFill>
                  <a:srgbClr val="3333cc"/>
                </a:solidFill>
                <a:latin typeface="Constantia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nstantia"/>
              </a:rPr>
              <a:t>                           </a:t>
            </a:r>
            <a:r>
              <a:rPr b="0" lang="en-US" sz="900" spc="-1" strike="noStrike">
                <a:solidFill>
                  <a:srgbClr val="3333cc"/>
                </a:solidFill>
                <a:latin typeface="Constantia"/>
              </a:rPr>
              <a:t>EMERGENCY MEDICINE PRACTICE DEC 2006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FFERENTIAL DIAGNO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ysicians only 80% accurate at differentiating Acute Heart Failure from other disease proce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FFERENTIAL DIAGNO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TH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P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LMONARY EMBO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NEUMON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VESTIG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Electrocardiograp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Radiolog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ENTING COMPLAI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RE SO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an while “swearing &amp; getting on bad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ank 1 bottle extra strength Code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n 20mls rum cre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OT WORSE !!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OOD INVESTIG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BC – anaemia, inf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 &amp; 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MARK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DIAC MARK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ENZY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CARDIAC MARK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THER CARDIAC MARKERS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 – NATRIURETIC PEPTIDE (BN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-TERMINAL PRO BN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1219320" y="3429000"/>
            <a:ext cx="1981080" cy="1066680"/>
          </a:xfrm>
          <a:prstGeom prst="flowChartMagneticTap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PRO B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320040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4343400" y="3429000"/>
            <a:ext cx="3886200" cy="1143000"/>
          </a:xfrm>
          <a:prstGeom prst="flowChart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NP + NT PRO-B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 – NATRIURETIC PEPTIDE (BNP)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FFE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Vasodi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Diur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Natriur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Suppression of Renin Angiotensin S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CE OF BNP IN H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Useful in Diagn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Assessing Seve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Predicting short &amp; long-term CVS mort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LEVELS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NO HEART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NP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lt; 100pg / 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T PRO-BNP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lt; 300pg / 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HEART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NP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gt;500pg / 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T PRO-BNP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gt; 1000pg / 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80% Sensitivity for heart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BLEMS !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Y AREA: 100pg/dl – 500p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NP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⁭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in non-cardiac condi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Renal dise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⁭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 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Pulmonary Embo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 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Cor pulmon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NP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⁭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in CC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OBESITY: BMI inversely related to BN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EFULNESS OF BN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es not add much when diagnosis certain from clinical pres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Uncertain diagnosis when BNP &lt; 100p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Known baseline in certain condi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% obese patients with acute heart failure have values &lt; 100p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ROCARDIOGRAM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chaemia / infar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rhythmia – A fi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V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longed Q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EST RADIOGRAP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NDINGS IN HEART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omegaly – 74% sensitive, 78% speci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scular redistrib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stitial oed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eural effusions (right sided/bilater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NI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est, abdominal or back p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lp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usea or vomi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phor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ug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vious episodes of SO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story of immob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XR – BUT 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20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tients with Acute heart failure hav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o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the “typical features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longstanding HF- Normal size he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ngstanding CCF –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</a:rPr>
              <a:t>lympha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PD – mini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ther investig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chocardiograp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Identify reversible cause eg tampon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Distinguish between  systolic and diastolic dys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I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rease Preload (right-sided fill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rease left-sided empty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fterload, ⁭ Cardiac outp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± improve LV contractility – inotro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Overall aim- Redistribute fluid out of lung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VAILABLE TREAT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HARMACOTHERAP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OTROPIC R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NINVASIVE POSITIVE PRESSURE VENTIL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HARMACOTHERAPY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NIT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DIURE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CE INHIBI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MORPH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NATRIURETIC PEP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T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ITROGLYCER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CHANISM OF 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nodilation (low dose)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PRE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rteriolar dilatation (higher dos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AFTER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ulmonary hydrostatic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51055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TROGLYCER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0.4mg q 5-10 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itrate up to 3 – 5mcg /kg /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opic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ay be unreliable in poor per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fect seen within minutes !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TROPRUSS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fter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Useful 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ulmonary oedema unresponsive to standard therap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Severe HT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Severe mitral/aortic regur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TROGLYCER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cellent single agent for acute pulmonary oedema 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E INHIBI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ECHANISM OF 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blingual or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fter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re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ulmonary Capillary Wedge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Down-regulate renin-angiotensin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M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previous admission to QE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Diabetes Mellitus/heart dise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mission to Psyche hospital for “social reasons ?!!”  - ? # ti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 no med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iven Natrilix on 1 occasion ~ 1year previous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E INHIBI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blin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.5mg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</a:rPr>
              <a:t>Captopril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s BP &lt; 1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5mg Captopril Sys BP &gt;1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traven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</a:rPr>
              <a:t>Enalapri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0.004mg/kg b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1mg infusion over 2 h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1.25 mg b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ffect seen within 10 minutes!!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E with ACE INHI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asily titra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ng duration of 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B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IURETICS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A - Furosem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ARLY – 1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30 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renin angiotensin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S/S nervous system (Release of Norepinephrin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⁭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SVR (afterload), ⁭ HR, ⁭ B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        ↓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A - Furosemide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nt’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TER (30 – 120 m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ecrease Pre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Diur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Direct venodilator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OMMEND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ive Nitrat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RIO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urosem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 dose Nitrate + low dose Diuretic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consistent impr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EN BETTER !?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medication with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itrates + ACE Inhibito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mmediate and sustain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PCWP by Furosem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RPH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re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nxio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B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Nitrate provide better preload re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istamine rele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TRIURETIC PEPTI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ESERIT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binant form of BN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DA ap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ESERITIDE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effective than Nitrates 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improving haemodynamic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self reported symp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ESERITIDE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ENSE: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40 x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&gt; NT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lus (2mcg/kg) followed by 24 - 48 hour infusion (0.01mcg/kg/m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I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vious CP dist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m pink, hydration adequ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pedal oed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erature 3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 axil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THER NATRIURETIC PEPTID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dergoing 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peritide – atrial natriuretic pept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laritide – renal natriuretic pept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PP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inuous positive airway pressure (CPA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-level positive airway pressure (BIPA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PPV MO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rease work of breat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rease preload &amp; after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rove Cardiac outp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ust be used early to maximize effect 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?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Arial"/>
              </a:rPr>
              <a:t>⁭ MI with BIPAP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OTROPIC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RDIOGENIC SH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S BP &lt; 80mmH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CWP &gt;18mmH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Index &lt; 1.8L/min/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normal 2.5 4.0 L/min/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OTROPIC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Catecholam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Phosphodiesterase inhibi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Calcium sensitizer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(undergoing researc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Intra-aortic balloon pu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atecholamines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pam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butamine (less arrhythmogeni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rease myocardial oxygen dem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lerance may develop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quiring higher do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osphodiesterase inhibi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EFERRED 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independent of adrenoreceptor activity and plasma catecholamine leve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toler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crease preload and afterload 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LRINONE 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POS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ALL PATIENTS SHOULD BE ADMITTED 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charge only 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ld fail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increased oxygen requir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: non-compli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chaemia ruled 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arrhythm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la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mental sta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od follow-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MM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REDISTRIBUTE FLUID OUT OF LUNG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ine: Nitrat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: ACE Inhibi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: Diure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PPV – use early 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rinone – preferred inot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IRATORY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SAT (room air)-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78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R 40/min, use of accessory musc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S vesic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ps – laterally + posterior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eze – throughout posterior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 YO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ttu A. Management of Acut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lmonary edema-Pearls and Pitfall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sowsky J, et al. Acutel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ompensated heart failur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gnostic and therapeutic Strategies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ergency Medicine Practice Dec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6;8(1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ttu A, et al. Pulmonary edema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ogenic. Emedic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DIOVASCULAR S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al pulses palpable + = bilater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VP not elev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LSE 107/min, regular, synchron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P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260 / 14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mH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mal heart sou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murm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BDO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ft, non-te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masses or organomega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mal 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23:13:44Z</dcterms:created>
  <dc:creator>Ann</dc:creator>
  <dc:description/>
  <dc:language>en-US</dc:language>
  <cp:lastModifiedBy>Yasoda</cp:lastModifiedBy>
  <dcterms:modified xsi:type="dcterms:W3CDTF">2007-07-21T03:14:41Z</dcterms:modified>
  <cp:revision>29</cp:revision>
  <dc:subject/>
  <dc:title>CASE</dc:title>
</cp:coreProperties>
</file>