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EAB-16AA-4268-98E6-961550D5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820-ABAB-409E-9355-EA5747EA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E29-373C-4D81-B27F-857C4B7B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F29-593C-4A67-944E-5CC73209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BDD-7CB2-4C76-B857-CA71D91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30E3-0329-4230-A8E6-712E473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A543-6354-4A2D-B7BE-35C14C2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8926-9EB6-4B48-B68D-41C771E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EA7-7460-45BC-914E-EB67FE2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CD9D-4E34-4102-BBF0-9DF7640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440-60EA-4A09-A369-9E047BF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EA4-9635-4F12-9E2D-F4371F2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81A-F418-4560-9EF1-DB4D46C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BEF-CEF2-4446-A1A4-3AABF020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7F7D-F6CA-4409-AFF7-0823886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7E3-FA4A-4E47-9C2E-67396939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1DB0-FFE2-44B0-8573-30237DB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FCF6-30E7-48DE-A5EE-A8D35B89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8705-2A15-493E-B1D7-28C152B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1B88-0C54-444B-B725-1FAA30E7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AB29-85F3-43FC-8B31-3E250C7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CFBA-4B21-455C-88C0-C175985D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AA2-956F-4C77-AAE7-5D31C6C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A845-3BAF-4DD5-920F-6AE30F7A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2B77-173C-4561-8E02-514D9B55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DD73-BD1F-4844-BA1E-AA68614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6C64-DF46-45E2-BC22-4C26C5A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5D17-3C74-4BC0-91B9-72BCB05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3F6D-2F4E-4019-88B8-E774BE9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47D8-523E-4CA7-A74E-26BAD6A2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11EF-069D-4D0F-BE6B-2F1C28AE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9CB9-30D6-4C1E-9B1F-4848A80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D43E-A288-4EAE-AE37-212946F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482-1D0F-4098-B34D-6E864BD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00F9-C681-4F20-B519-6EC0359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9926-0F91-43CC-9343-72B18ED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CE1B-7DEB-47BC-B5A4-CCE8351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8FA6-B115-4FF5-9D56-09B2781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EF17-015A-4C75-9B55-557F27F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9055-11EA-4C26-9211-A2552F42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4797-1AEA-48D1-99F0-C5C30986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3B79-B88C-4B62-A93A-8AC60A9F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84B9-AC70-4D57-9C5A-466990C1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60C-5624-4B5D-B70D-A89D3D8D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676-793B-471E-9A51-D2AC53AD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3FB-990A-41E3-9D77-3D32CCA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7CE-2468-4A83-B3C7-F2473E11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E11-BD4E-4F85-966A-65F9EFE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5D20-B421-435F-A3EF-F9D0BC9A94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F78-36FA-43F0-9A4A-BC544CF613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9F0-CFBC-46B1-BEAD-A8A5B4EFE2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54D-6FC9-4A8E-964F-3A64189352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REA JOHNS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USCULOSKELE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calf swelling or tender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SC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2.3 MMOL / 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ESS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ACUTE PULMONARY OEDEM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/o Acute Myocardial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Uncontrolled HTN –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on-comp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? Newly Diagnosed Diabe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15 L / min- nonbreather face ma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TN 2 puffs – X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troglygerin infusion @ 1mcg/kg/min (100mcg/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alapril 1.25mg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ix 60mg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pirin 300mg st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uble insulin 10u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Arial"/>
              </a:rPr>
              <a:t>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(RT sided leads subsequentl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enzy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 PTT n/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Urea and electroly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X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ethral catheter + uri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: sinus, 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VH with Str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 depression II, aV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 ST elevation vs high J point V1-V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ght sided leads - N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X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ffy opacity through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B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15 L O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2 sat 93.2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2 - 74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O2 – 39.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CO3 – 18.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b 15.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BC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T 33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dium 1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tassium 3.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loride 10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ea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inin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K 1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KMB 4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oponin I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0.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RTHER MX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red To Med on 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 hou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fter seen significant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R 32/ min, BP 195 / 109, pulse 85/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 hou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0 mls urine empti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tted to M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 WA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ed for U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y 4 aggressive, speaking loud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n by psy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gnosis ? Paranoid Schizophrenia v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usional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 Hypomanic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0 year old fem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pertensive – non-compliant X 1ye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CHAR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Y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/U: MOPD + Psyche Hospi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TH: Lasix 40mg 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vas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ita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pit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amicron MR 30mg 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lete Septr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CUTE CARDIOGENIC PULMONARY OEDEM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ANDREA JOHNS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FIN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kage of fluid from the pulmonary capillaries and venules into the alveolar space as a result of increased hydrostat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ability of left ventricle to effectively handle its pulmonary venous retu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1200" spc="-1" strike="noStrike">
                <a:solidFill>
                  <a:srgbClr val="3333cc"/>
                </a:solidFill>
                <a:latin typeface="Constantia"/>
              </a:rPr>
              <a:t>MATTU ET A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O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4648320" y="3962520"/>
            <a:ext cx="2286000" cy="8380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iotensi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62720" y="2057400"/>
            <a:ext cx="2514600" cy="91440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143000" y="2209680"/>
            <a:ext cx="3048120" cy="83844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2057400" y="5105520"/>
            <a:ext cx="2362320" cy="83808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DO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6248520" y="5334120"/>
            <a:ext cx="2057400" cy="609480"/>
          </a:xfrm>
          <a:prstGeom prst="flowChartTermina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419720" y="2666880"/>
            <a:ext cx="990360" cy="609840"/>
          </a:xfrm>
          <a:prstGeom prst="flowChartDecis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7086600" y="3124080"/>
            <a:ext cx="914400" cy="304920"/>
          </a:xfrm>
          <a:prstGeom prst="flowChartTerminator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V="1">
            <a:off x="4267080" y="2361960"/>
            <a:ext cx="1295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61722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H="1">
            <a:off x="38858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6858000" y="4800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O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4"/>
          <p:cNvSpPr/>
          <p:nvPr/>
        </p:nvSpPr>
        <p:spPr>
          <a:xfrm>
            <a:off x="2438280" y="2133720"/>
            <a:ext cx="2210040" cy="76176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DIA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PC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486400" y="3200400"/>
            <a:ext cx="3048120" cy="121932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RENIN ANGIOT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ION OF S/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200400" y="5029200"/>
            <a:ext cx="3429000" cy="8380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SYSTEMIC VASCULAR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D PRE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609480" y="4191120"/>
            <a:ext cx="1981440" cy="1066680"/>
          </a:xfrm>
          <a:prstGeom prst="flowChartAlternate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IAC ISCHA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FT VENT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2895480" y="3352680"/>
            <a:ext cx="1828800" cy="60984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TO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800600" y="2286000"/>
            <a:ext cx="2666880" cy="91440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-914400" y="6858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6705720" y="4419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1371600" y="2057400"/>
            <a:ext cx="990720" cy="213372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2362320" y="52578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3581280" y="28954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CIPITATING FAC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yocardial ischaemia or infar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rhythmi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controlled HTN/HTN cri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dication Non-complia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uid overlo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aem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ulmonary &amp; other infec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appropriate medications-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-ve inotropes, NS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NICAL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thopnoea -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7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ezing –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pitations - sensitivit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pecificity </a:t>
            </a: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nstantia"/>
              </a:rPr>
              <a:t>                           </a:t>
            </a:r>
            <a:r>
              <a:rPr b="0" lang="en-US" sz="900" spc="-1" strike="noStrike">
                <a:solidFill>
                  <a:srgbClr val="3333cc"/>
                </a:solidFill>
                <a:latin typeface="Constantia"/>
              </a:rPr>
              <a:t>EMERGENCY MEDICINE PRACTICE DEC 2006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IAL DIAGN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ians only 80% accurate at differentiating Acute Heart Failure from other disease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IAL DIAGN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H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EMBO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NEUMO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VESTIG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Electrocardi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Radiolog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ENTING COMPLAI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RE SO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while “swearing &amp; getting on bad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nk 1 bottle extra strength Code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n 20mls rum cr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OT WORSE !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OD INVESTIG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BC – anaemia, inf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 &amp; 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MARK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DIAC MARK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ENZY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CARDIAC MARK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THER CARDIAC MARKER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 – NATRIURETIC PEPTIDE (BN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-TERMINAL PRO BN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219320" y="3429000"/>
            <a:ext cx="1981080" cy="1066680"/>
          </a:xfrm>
          <a:prstGeom prst="flowChartMagneticTap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PRO B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32004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4343400" y="3429000"/>
            <a:ext cx="3886200" cy="1143000"/>
          </a:xfrm>
          <a:prstGeom prst="flowChartProcess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NP + NT PRO-B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 – NATRIURETIC PEPTIDE (BNP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FF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Vasodi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D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Natr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Suppression of Renin Angiotensin S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CE OF BNP IN H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Useful in Diagn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Assessing Seve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Predicting short &amp; long-term CVS mort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LEVELS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NO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lt; 1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 PRO-BN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lt; 3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5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 PRO-BNP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 1000pg / 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80% Sensitivity for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S 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Y AREA: 100pg/dl – 5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in non-cardiac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Renal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Pulmonary Embo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Cor pulmon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NP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in CC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OBESITY: BMI inversely related to BN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FULNESS OF BN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 not add much when diagnosis certain from clinical 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Uncertain diagnosis when BNP &lt; 1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Known baseline in certain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% obese patients with acute heart failure have values &lt; 100p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ROCARDIOGRAM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chaemia /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rhythmia – A fi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V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longed Q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EST RADIOGRAP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NDINGS IN HEART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omegaly – 74% sensitive, 78% 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scular redis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stitial oed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ural effusions (right sided/bilater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NI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st, abdominal or back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l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usea or vomi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pho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g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vious episodes of SO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story of immob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XR – BUT 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0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tients with Acute heart failure hav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the “typical features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longstanding HF- Normal siz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standing CCF –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lymph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PD – mini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ther investig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chocardi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Identify reversible cause eg tampon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Distinguish between  systolic and diastolic dys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EAT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Preload (right-sided fil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left-sided empty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, ⁭ 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± improve LV contractility – inotro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Overall aim- Redistribute fluid out of lung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ILABLE TREAT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ARMACOTHERAP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OTROPIC R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NINVASIVE POSITIVE PRESSURE VENTI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HARMACOTHERAPY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NIT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DIUR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C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MORPH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NATRIURETIC PEP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ITROGLYCER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CHANISM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nodilation (low dose)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rteriolar dilatation (higher dos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hydrostatic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51055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GLYCER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0.4mg q 5-10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itrate up to 3 – 5mcg /kg /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opic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ay be unreliable in poor per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 seen within minutes 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PRUSS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Useful 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oedema unresponsive to standard thera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evere HT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evere mitral/aortic regur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TROGLYCER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t single agent for acute pulmonary oedema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ECHANISM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lingual or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ulmonary Capillary Wedge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Down-regulate renin-angiotensi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M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revious admission to QE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Diabetes Mellitus/heart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mission to Psyche hospital for “social reasons ?!!”  - ? # ti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no med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n Natrilix on 1 occasion ~ 1year prev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.5mg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Captopri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s BP &lt; 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mg Captopril Sys BP &gt;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raven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</a:rPr>
              <a:t>Enalapri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0.004mg/kg b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1mg infusion over 2 h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1.25 mg b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ffect seen within 10 minutes!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E with ACE INHI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asily titra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 duration of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IURETIC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A -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ARLY – 1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30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renin angiotensi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S/S nervous system (Release of Norepinephr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⁭ 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SVR (afterload), ⁭ HR, ⁭ 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        ↓</a:t>
            </a:r>
            <a:r>
              <a:rPr b="0" lang="en-US" sz="2600" spc="-1" strike="noStrike">
                <a:solidFill>
                  <a:srgbClr val="3333cc"/>
                </a:solidFill>
                <a:latin typeface="Constantia"/>
                <a:ea typeface="Arial"/>
              </a:rPr>
              <a:t>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A - Furosemide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t’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ER (30 – 120 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crease 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Diur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Direct venodilator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MMEND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 Nitrat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I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dose Nitrate + low dose Diuretic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consistent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EN BETTER !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medication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itrates + ACE Inhibito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mmediate and sustain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PCWP by Furosem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RPH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Pre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Anxio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Nitrate provide better preload re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istamine rel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TRIURETIC PEPT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ESERI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binant form of BN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DA ap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ESERITIDE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effective than Nitrates 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mproving haemodynamic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self reported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ESERITIDE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NSE: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0 x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NT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lus (2mcg/kg) followed by 24 - 48 hour infusion (0.01mcg/kg/m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vious CP di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m pink, hydration adeq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edal oed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erature 3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 axil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THER NATRIURETIC PEPTID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dergoing re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peritide – atrial natriuretic pep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laritide – renal natriuretic pept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PP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inuous positive airway pressure (CPA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-level positive airway pressure (BIPA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IPPV MO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work of breat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 preload &amp; afterl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rove Cardiac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st be used early to maximize effect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?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Arial"/>
              </a:rPr>
              <a:t>⁭ MI with BIPA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OTROPIC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RDIOGENI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S BP &lt; 80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WP &gt;18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ac Index &lt; 1.8L/min/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normal 2.5 4.0 L/min/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OTROPIC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Catecholam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Phosphodiesteras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Calcium sensitizer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(undergoing researc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Intra-aortic ballo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atecholamine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p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butamine (less arrhythmogeni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myocardial oxyge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lerance may develop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quiring higher do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osphodiesterase inhibi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EFERRED 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independent of adrenoreceptor activity and plasma catecholamine lev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toler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crease preload and afterload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LRINONE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POS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PATIENTS SHOULD BE ADMITTED 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charge only 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d fail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increased oxygen requir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: non-compli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chaemia ruled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arrhyth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la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mental sta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follow-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DISTRIBUTE FLUID OUT OF LUNG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: Nitra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: ACE Inhibi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: Diur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IPPV – use early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rinone – preferred inot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IRATORY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SAT (room air)-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78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R 40/min, use of accessory mus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S vesic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ps – laterally + posterio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eze – throughout posterio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tu A. Management of Acut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monary edema-Pearls and Pitfall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sowsky J, et al. Acutel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ompensated heart failur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gnostic and therapeutic Strategies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ergency Medicine Practice Dec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6;8(1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tu A, et al. Pulmonary edema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diogenic. Emedic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DIOVASCULAR S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al pulses palpable + = bilater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VP not elev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SE 107/min, regular, synchron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P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260 / 14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mH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heart sou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urm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D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ft, non-ten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asses or organomega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23:13:44Z</dcterms:created>
  <dc:creator>Ann</dc:creator>
  <dc:description/>
  <dc:language>en-US</dc:language>
  <cp:lastModifiedBy>Yasoda</cp:lastModifiedBy>
  <dcterms:modified xsi:type="dcterms:W3CDTF">2007-07-21T03:14:41Z</dcterms:modified>
  <cp:revision>29</cp:revision>
  <dc:subject/>
  <dc:title>CASE</dc:title>
</cp:coreProperties>
</file>